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EDE-490C-40AD-973B-AE8E2EE9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C0C-8BC7-4D15-9467-F2C666B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94E-62DB-4C1B-8F39-B4A3BAF8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D0D-F39E-4314-BD68-A9F6E99C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0EF1-F251-4EBD-A4CC-8627DB51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252-C578-40C2-8A9A-F97CD41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E8F9-0BAE-42A3-937E-686316F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B11E-393F-4F39-A655-00804F99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D31-1479-4735-952C-0DA7911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817D-F3B3-4F36-A0CD-184E611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C3C-A32C-49F3-A1BD-8CA727C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9DE-3840-457A-AA38-89492DE0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1E9-D971-47B0-BAC9-8478BD5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0827-E008-4B71-ABEA-3EFC3FD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7595-1755-46A0-981F-5ACD62E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DBC2-36D0-431C-834E-B40FE9AE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BA0-8694-466B-85FC-CAE8579A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1058-A1AE-435E-9028-90014808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277B-8118-4CCB-BF50-676DFAD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8155-F2CC-45EE-BECB-4B895CC2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8BF9-F237-4E7A-9E1E-A7F21C1E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FD14-2C7B-4812-B904-B03300C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10F-FFE2-4D60-8B54-32B03BBC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6D5A-F424-47EA-BF4B-1E9A734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71EC-B0D0-4A08-BDED-0E56D6A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8AE0-6D4F-4932-B495-FAF0118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5462-55CB-42B8-912F-92D9E0A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AA26-D89E-492F-80A1-D4DC6373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ED96-FBD8-4A9C-8D1F-17D25CA4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83CB-90A8-4191-B75B-B4ED45BC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5029-831C-484E-BE14-E17B5B56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412D-EA4C-48FC-8F56-F3469FEE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B491-B38D-4A7A-A161-49B2ACC0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18D-2C17-4A2A-8028-9E59D28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2A1A-D216-4252-8B4A-CE4F052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111B-D33C-4FF5-A07A-08C1C9D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C9B9-2B48-4CB9-8FE7-2CCFF4B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034D-3904-4B15-AC7E-712EA277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78A2-FA59-4133-A7D1-1C2EA5A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96AA-CDF6-488A-81A8-C839A6A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ED17-CC82-40B2-9EBB-B35A608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291F-63DE-479B-BD09-528C937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2FA9-A57E-4EC9-BF15-5F427226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681-6A03-4173-816A-BE08921E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F53-EF04-4375-A126-E9B6B4DC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C42-CEB3-4E65-9507-0658708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9DA-8A42-4470-9CD2-AB0B45C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E9A-53EE-45AF-9020-7031609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523-9A41-4DD4-A83D-563B9E4CF4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443A-C81A-4A5B-9FC9-7A4F2E6C1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7B7-9648-4D7E-86FF-F763DF0C658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0D6-78EA-4711-9C32-719185617A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9-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register for the draft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rustworthiness and Honest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urteous and Respectful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actices Patriotism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actices Responsibilit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above are all traits that best describe -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Juvenile delinque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raits of a good citiz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s teachers foll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ivil du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68580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Traits of a good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system gives each of the three branches of government ways to limit the powers of the other branches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 of checks and balan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Democratic a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yrannical rul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6781680" y="44197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System of checks and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legislative branch by declaring laws unconstitutional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"/>
          <p:cNvSpPr/>
          <p:nvPr/>
        </p:nvSpPr>
        <p:spPr>
          <a:xfrm>
            <a:off x="457200" y="228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legislative branch by vetoing acts of Congress and calling Congress into special session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6019920" y="44956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helps to prevent any one branch of government from abusing its power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eparating power among the legislative, executive and judicial branch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Keeping each branch in its own build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iving each branch an equal amount of 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7543800" y="3505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29718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Separating power among the legislative, executive and judicial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6483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a responsibility of a citize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fluence government by communicating with government official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bey law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y taxe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rve in the armed forces if calle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457200" y="457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executive branch by overriding vetoes and impeaching the President?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542880" y="66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Legislative Bran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BEST describes the amendment proces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pret and then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atify and then propo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ose and then ratif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Vote and then interpret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57200" y="152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Propose and then ratif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Constitution has been amended ____ times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20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23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25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27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4572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2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formal change to the Constitution is a(n) 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mend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os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terpretation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"/>
          <p:cNvSpPr/>
          <p:nvPr/>
        </p:nvSpPr>
        <p:spPr>
          <a:xfrm>
            <a:off x="457200" y="380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mend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657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fluence government by communicating with government officials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taking the citizenship exam, an alien must be able to ______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ability to perform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asic mathematical function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knowledge of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histor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cite the Pledge of Allegianc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peak English perfectly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533520" y="380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knowledge of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history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itizens who do not fulfill their civic duties _______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n’t required to by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 legal consequen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fulfill them when they have ti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request 1 additional year to fulfi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609480" y="533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ace legal consequences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723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cause so many immigrants have come to our country, we have a ______ population. 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crati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vers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publica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trang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838080" y="457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ivers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4197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ou are a citizen because 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lived here for more th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yea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passed the citizenship ex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ere born 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parents filled out the paper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533520" y="685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17982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itizenship:  Duties, Rights, and Libertie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3 a-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4 a-e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undations of American Governmen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2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6 c-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you were born here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re 5 ways that you or your parents could participate in community service.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304920" y="762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 to support democratic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concern about the welfare of the community as a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to make the community a good place to work and l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ing in nursing h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038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freedom guaranteed by the first amendment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609480" y="380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505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124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are free to express their opinions and beliefs?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1143000" y="380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government may not establish an official religion, nor endorese, or unduly interfere with the free exercise of religio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219320" y="198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amendment to the Constitution of the United States of America defines citizenship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____ amendment states “All persons born or naturalized in the United States, and subject to the jurisdiction thereof, are citizens of the United States and the state wherein they reside.”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  14th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  22n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80880" y="228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952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the preamble to the Constitution of the United States of America expres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s forth the goals and purpos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the relationship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and state government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s why the United St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me an independent countr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s that the people hav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and power to gove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sel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769608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ets forth the goals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urposes of the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purpose of the U.S. government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domestic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weal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stablish jus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def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6324480" y="4343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To ensure wealth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457200" y="457200"/>
            <a:ext cx="8229600" cy="5943600"/>
            <a:chOff x="457200" y="457200"/>
            <a:chExt cx="8229600" cy="5943600"/>
          </a:xfrm>
        </p:grpSpPr>
        <p:sp>
          <p:nvSpPr>
            <p:cNvPr id="284" name="Rectangle 3"/>
            <p:cNvSpPr/>
            <p:nvPr/>
          </p:nvSpPr>
          <p:spPr>
            <a:xfrm>
              <a:off x="457200" y="4572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</a:rPr>
                <a:t>How does the Preamble to the Constitution of the United States of America begin?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" y="1989000"/>
              <a:ext cx="8229600" cy="44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To form a more perfect union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We the people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We are gathered here today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Ladies and gentlemen, may I have your attention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"/>
          <p:cNvSpPr/>
          <p:nvPr/>
        </p:nvSpPr>
        <p:spPr>
          <a:xfrm>
            <a:off x="708660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“We the people…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457200" y="1066680"/>
            <a:ext cx="8229600" cy="5943600"/>
            <a:chOff x="457200" y="1066680"/>
            <a:chExt cx="8229600" cy="5943600"/>
          </a:xfrm>
        </p:grpSpPr>
        <p:sp>
          <p:nvSpPr>
            <p:cNvPr id="289" name="Rectangle 3"/>
            <p:cNvSpPr/>
            <p:nvPr/>
          </p:nvSpPr>
          <p:spPr>
            <a:xfrm>
              <a:off x="457200" y="106668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</a:rPr>
                <a:t>What fundamental political principle means people are the source of any and all government power?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457200" y="2598480"/>
              <a:ext cx="8229600" cy="44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onsent of the governe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Limited govern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ule of law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eparation of pow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"/>
          <p:cNvSpPr/>
          <p:nvPr/>
        </p:nvSpPr>
        <p:spPr>
          <a:xfrm>
            <a:off x="5943600" y="38098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ent of the govern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e government is not all-powerful and may do only those things people have given it the power to do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457200" y="457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.  14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Limited 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e government and those who govern are bound by the law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457200" y="380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Rule of la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at in a democratic system of government the people rul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itari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is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atorshi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762120" y="4572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143000" y="3200400"/>
            <a:ext cx="45180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mocr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government where people elect public officeholders to make laws and conduct government business on their behalf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talitarian govern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rect 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ocialist 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presentativ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457200" y="533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3200400"/>
            <a:ext cx="83059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 representative 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political principles define and shape American constitutional government?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ament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838080" y="380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457200" y="3200400"/>
            <a:ext cx="83059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.  Fundamenta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4876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mmigration to the United States has led to -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r turnouts for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rease in federal tax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ingly diverse socie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wer citizens owing the U. 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egianc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453960" y="193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ne duty of a U.S. citizen is _____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must do by law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can choose to do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that you want to do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should do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33520" y="609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3200400"/>
            <a:ext cx="8305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.  An increasingly diverse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cie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57200" y="5943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the beginning of the Preamble to the Constitution of the United States of America establish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power of government 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peop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amendment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executive branch h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ow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each branch of the govern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limit the powers of the o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8001000" y="43434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57200" y="3200400"/>
            <a:ext cx="8305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.  That the power of government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es from the peop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society requires an active participation of its citizen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ti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itaria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685800" y="380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457200" y="3200400"/>
            <a:ext cx="8305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mocratic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457200" y="58672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____ is an individual with certain rights and duties under a government and who, by birth or by choice, owes allegiance to that government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o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ma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6172200" y="5105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5720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examples of democratic institutions that a citizen could volunteer for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gue of Women Vote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 Red Cro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Brother/Big Siste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-time job teach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6553080" y="4267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Full-time teaching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ach of the following is a democratic institution a citizen could volunteer for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eying the la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45720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9718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must do by law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Obeying 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How does an individual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serve the public good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t Burger K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ing football at the pa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ing out with frien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eer in your commun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685800" y="457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066680" y="32464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Volunteer in you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beying federal, state, and local laws is considered every citizen’s - </a:t>
            </a: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9907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du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4876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the press has the right to gather and publish information, including that which criticizes the government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457200" y="304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Freedom of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45720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may peacefully gather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762120" y="380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Freedom of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57200" y="45720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have the right to make their views known to public official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457200" y="609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457200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responsibility of a U.S. citizen is _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are required to do by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do voluntaril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must do or there will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consequen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r parents make you 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60948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Freedom of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mendment to the Constitution of the United States of America extends the due process protection to actions of the stat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irst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ift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en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ourte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5867280" y="4724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Fourtee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documents that influenced the Constitution of the United States of America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609480" y="380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The Magna C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stated grievances against the king of Great Britain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457200" y="457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Declaration of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declared the colonies independence from Great Britain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Declaration of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457200" y="51055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Declaration of Independence established the idea that 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A country should decide what rights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izens wa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ll citizens, both men and wome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uld have the right to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America should open its doors to 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uge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ll people are equal under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7848720" y="439596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omething you do voluntarily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All people are equal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under 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51055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document establishes the structure of the United States government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762120" y="115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762120" y="29718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Constitution of the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United States of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merica, including the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45720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established the first form of national government for the independent states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7162920" y="3581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ensured freedom of religious beliefs and opinions for all the people of Virgini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Virginia Freedom for all Reli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7315200" y="32004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Virginia Statute for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served as a model for the Bill of Rights of the Constitution of the United States of Americ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Virginia Freedom for all Reli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7391520" y="38098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Virginia Declaration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articulated the rights of Englishmen guaranteed to colonis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harters of the Virginia Compan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7238880" y="37339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5029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a duty of a citize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gister and vot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gister for the draf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spect others' rights to an equal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oice in governmen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rve in voluntary, appointe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osition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5335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Charters of the Virginia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ompany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457200" y="4800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Declaration of Independence affirmed that all men had certain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vil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Unalienable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Voting right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titution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457200" y="304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Unalienable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457200" y="4800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maintained that major powers resided with individual stat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6781680" y="434016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document guarantees equality under the law, protects the fundamental freedom of religion, speech, press, assembly and petition and affirms individual worth and dignity of all peopl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"/>
          <p:cNvSpPr/>
          <p:nvPr/>
        </p:nvSpPr>
        <p:spPr>
          <a:xfrm>
            <a:off x="7162920" y="46483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29718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United States Constitution, including 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led to the writing of the Constitution of the United States of Americ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457200" y="8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2:53:18Z</dcterms:created>
  <dc:creator>paupulley</dc:creator>
  <dc:description/>
  <dc:language>en-US</dc:language>
  <cp:lastModifiedBy>Deborah L. Welker</cp:lastModifiedBy>
  <dcterms:modified xsi:type="dcterms:W3CDTF">2012-05-25T10:38:32Z</dcterms:modified>
  <cp:revision>9</cp:revision>
  <dc:subject/>
  <dc:title>Civics</dc:title>
</cp:coreProperties>
</file>